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A9C9-58BB-44FE-9341-4307AE8CF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8F81-5621-4E31-93C7-7DA9D1E6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599B-5D5C-4BAA-9736-9CC997BAF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ED5D-9DD9-4DC8-B700-977F8D89F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CEA4-2169-4FA9-A30D-4125592E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1ABA-8146-453C-A663-F53F8F2D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C0A5-7C56-491F-960B-BCEEF1D5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F0A8-6980-4496-B321-FF8BCEBC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36C9-07E7-4AB4-92A0-A56AFACE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AFB5-F7DE-4418-9428-094D6AAE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ECE9-8383-4613-ACC5-E531C0A6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4A1F-77DB-4A4F-8CAD-36EC8261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0637-CB8B-4264-AA1A-F9F9007D5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4964400" cy="5810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057400" y="750960"/>
            <a:ext cx="5334120" cy="5132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1676520" y="1447920"/>
            <a:ext cx="5867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0000"/>
                </a:solidFill>
                <a:latin typeface="Century Gothic"/>
              </a:rPr>
              <a:t>am</a:t>
            </a:r>
            <a:endParaRPr b="0" lang="en-US" sz="25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600200" y="1295280"/>
            <a:ext cx="62485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5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2895480" y="914400"/>
            <a:ext cx="3254400" cy="4924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514600" y="914400"/>
            <a:ext cx="3668760" cy="5138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438280" y="914400"/>
            <a:ext cx="4167360" cy="5129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438280" y="533520"/>
            <a:ext cx="4005360" cy="579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143000" y="879480"/>
            <a:ext cx="7010280" cy="4822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6058080" cy="5265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21:57:33Z</dcterms:created>
  <dc:creator>Chris Mclemore</dc:creator>
  <dc:description/>
  <dc:language>en-US</dc:language>
  <cp:lastModifiedBy>Help Desk</cp:lastModifiedBy>
  <dcterms:modified xsi:type="dcterms:W3CDTF">2009-08-19T22:12:18Z</dcterms:modified>
  <cp:revision>4</cp:revision>
  <dc:subject/>
  <dc:title>PowerPoint Presentation</dc:title>
</cp:coreProperties>
</file>